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541-D063-4377-89FD-FD258A80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BF4-00DA-4C87-A245-D04208CF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298-BD1A-4338-91A8-7066A7FD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FCD-D603-41AC-A729-8670C956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D94-3241-4665-843D-A1C2A3A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928-73EA-4719-81DA-BE5DF12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3D4-C467-49F4-B346-58AF5DE2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EC9-6E35-4115-89D2-F092CCC6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C7E-FA43-44C3-8CFB-07C92C78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B14-7F4C-4B67-B6DF-B8FF6D75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794-3BC6-457E-B899-64CD87FC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470-8257-41D9-B0E7-D8B78A9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91BA-9FEF-412E-BA9A-F2D5A342F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82680" y="2057400"/>
            <a:ext cx="1752480" cy="66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8954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2438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209680"/>
            <a:ext cx="1905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it Ful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4038480"/>
            <a:ext cx="1752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ip 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2860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9718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251460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21932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65760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7238880" y="16002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7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74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09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5146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69160" y="51944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80060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" y="2997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1240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42900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4076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48440" y="3327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4800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00880" y="52070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657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58920" y="4089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5892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523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9568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657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7242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 = Parallel inpu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 = Parallel inpu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= Parallel output from Sum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981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67984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42080" y="223524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943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SERIAL ADDER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457200"/>
            <a:ext cx="3505320" cy="307080"/>
            <a:chOff x="380880" y="457200"/>
            <a:chExt cx="3505320" cy="307080"/>
          </a:xfrm>
        </p:grpSpPr>
        <p:sp>
          <p:nvSpPr>
            <p:cNvPr id="84" name=""/>
            <p:cNvSpPr/>
            <p:nvPr/>
          </p:nvSpPr>
          <p:spPr>
            <a:xfrm>
              <a:off x="2666880" y="4572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=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80880" y="533520"/>
              <a:ext cx="304920" cy="152280"/>
              <a:chOff x="380880" y="533520"/>
              <a:chExt cx="304920" cy="152280"/>
            </a:xfrm>
          </p:grpSpPr>
          <p:sp>
            <p:nvSpPr>
              <p:cNvPr id="86" name=""/>
              <p:cNvSpPr/>
              <p:nvPr/>
            </p:nvSpPr>
            <p:spPr>
              <a:xfrm>
                <a:off x="51156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5512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088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85800" y="533520"/>
              <a:ext cx="304920" cy="152280"/>
              <a:chOff x="685800" y="533520"/>
              <a:chExt cx="304920" cy="152280"/>
            </a:xfrm>
          </p:grpSpPr>
          <p:sp>
            <p:nvSpPr>
              <p:cNvPr id="90" name=""/>
              <p:cNvSpPr/>
              <p:nvPr/>
            </p:nvSpPr>
            <p:spPr>
              <a:xfrm>
                <a:off x="86004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80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1612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1600200" y="533520"/>
              <a:ext cx="304920" cy="152280"/>
              <a:chOff x="1600200" y="533520"/>
              <a:chExt cx="304920" cy="152280"/>
            </a:xfrm>
          </p:grpSpPr>
          <p:sp>
            <p:nvSpPr>
              <p:cNvPr id="94" name=""/>
              <p:cNvSpPr/>
              <p:nvPr/>
            </p:nvSpPr>
            <p:spPr>
              <a:xfrm>
                <a:off x="17308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77444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020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905120" y="533520"/>
              <a:ext cx="304200" cy="152280"/>
              <a:chOff x="1905120" y="533520"/>
              <a:chExt cx="304200" cy="152280"/>
            </a:xfrm>
          </p:grpSpPr>
          <p:sp>
            <p:nvSpPr>
              <p:cNvPr id="98" name=""/>
              <p:cNvSpPr/>
              <p:nvPr/>
            </p:nvSpPr>
            <p:spPr>
              <a:xfrm>
                <a:off x="207900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0512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0350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990720" y="533520"/>
              <a:ext cx="304200" cy="152280"/>
              <a:chOff x="990720" y="533520"/>
              <a:chExt cx="304200" cy="152280"/>
            </a:xfrm>
          </p:grpSpPr>
          <p:sp>
            <p:nvSpPr>
              <p:cNvPr id="102" name=""/>
              <p:cNvSpPr/>
              <p:nvPr/>
            </p:nvSpPr>
            <p:spPr>
              <a:xfrm>
                <a:off x="1121040" y="533520"/>
                <a:ext cx="43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6460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295280" y="533520"/>
              <a:ext cx="304920" cy="152280"/>
              <a:chOff x="1295280" y="533520"/>
              <a:chExt cx="304920" cy="152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46952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9528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42560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362320" y="60948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880" y="457200"/>
            <a:ext cx="3505320" cy="307080"/>
            <a:chOff x="380880" y="457200"/>
            <a:chExt cx="3505320" cy="307080"/>
          </a:xfrm>
        </p:grpSpPr>
        <p:sp>
          <p:nvSpPr>
            <p:cNvPr id="111" name=""/>
            <p:cNvSpPr/>
            <p:nvPr/>
          </p:nvSpPr>
          <p:spPr>
            <a:xfrm>
              <a:off x="2666880" y="4572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=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80880" y="533520"/>
              <a:ext cx="304920" cy="152280"/>
              <a:chOff x="380880" y="533520"/>
              <a:chExt cx="304920" cy="152280"/>
            </a:xfrm>
          </p:grpSpPr>
          <p:sp>
            <p:nvSpPr>
              <p:cNvPr id="113" name=""/>
              <p:cNvSpPr/>
              <p:nvPr/>
            </p:nvSpPr>
            <p:spPr>
              <a:xfrm>
                <a:off x="51156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512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8088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85800" y="533520"/>
              <a:ext cx="304920" cy="152280"/>
              <a:chOff x="685800" y="533520"/>
              <a:chExt cx="304920" cy="152280"/>
            </a:xfrm>
          </p:grpSpPr>
          <p:sp>
            <p:nvSpPr>
              <p:cNvPr id="117" name=""/>
              <p:cNvSpPr/>
              <p:nvPr/>
            </p:nvSpPr>
            <p:spPr>
              <a:xfrm>
                <a:off x="86004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580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81612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00200" y="533520"/>
              <a:ext cx="304920" cy="152280"/>
              <a:chOff x="1600200" y="533520"/>
              <a:chExt cx="304920" cy="152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7308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7444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0020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905120" y="533520"/>
              <a:ext cx="304200" cy="152280"/>
              <a:chOff x="1905120" y="533520"/>
              <a:chExt cx="304200" cy="152280"/>
            </a:xfrm>
          </p:grpSpPr>
          <p:sp>
            <p:nvSpPr>
              <p:cNvPr id="125" name=""/>
              <p:cNvSpPr/>
              <p:nvPr/>
            </p:nvSpPr>
            <p:spPr>
              <a:xfrm>
                <a:off x="207900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512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03508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990720" y="533520"/>
              <a:ext cx="304200" cy="152280"/>
              <a:chOff x="990720" y="533520"/>
              <a:chExt cx="304200" cy="152280"/>
            </a:xfrm>
          </p:grpSpPr>
          <p:sp>
            <p:nvSpPr>
              <p:cNvPr id="129" name=""/>
              <p:cNvSpPr/>
              <p:nvPr/>
            </p:nvSpPr>
            <p:spPr>
              <a:xfrm>
                <a:off x="1121040" y="533520"/>
                <a:ext cx="4320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64600" y="6858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90720" y="53352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295280" y="533520"/>
              <a:ext cx="304920" cy="152280"/>
              <a:chOff x="1295280" y="533520"/>
              <a:chExt cx="304920" cy="152280"/>
            </a:xfrm>
          </p:grpSpPr>
          <p:sp>
            <p:nvSpPr>
              <p:cNvPr id="133" name=""/>
              <p:cNvSpPr/>
              <p:nvPr/>
            </p:nvSpPr>
            <p:spPr>
              <a:xfrm>
                <a:off x="1469520" y="53352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95280" y="6858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425600" y="533520"/>
                <a:ext cx="4356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362320" y="60948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238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438280"/>
            <a:ext cx="9907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241308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380988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3809880"/>
            <a:ext cx="9907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D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23623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Multi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3452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915400" y="2666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07732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4816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343400" y="4038480"/>
            <a:ext cx="91440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429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001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952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0481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956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5105520"/>
            <a:ext cx="3505320" cy="307080"/>
            <a:chOff x="685800" y="5105520"/>
            <a:chExt cx="3505320" cy="307080"/>
          </a:xfrm>
        </p:grpSpPr>
        <p:sp>
          <p:nvSpPr>
            <p:cNvPr id="155" name=""/>
            <p:cNvSpPr/>
            <p:nvPr/>
          </p:nvSpPr>
          <p:spPr>
            <a:xfrm>
              <a:off x="2971800" y="51055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85800" y="5181480"/>
              <a:ext cx="304920" cy="151920"/>
              <a:chOff x="685800" y="5181480"/>
              <a:chExt cx="304920" cy="151920"/>
            </a:xfrm>
          </p:grpSpPr>
          <p:sp>
            <p:nvSpPr>
              <p:cNvPr id="157" name=""/>
              <p:cNvSpPr/>
              <p:nvPr/>
            </p:nvSpPr>
            <p:spPr>
              <a:xfrm>
                <a:off x="81648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6004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580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990720" y="5181480"/>
              <a:ext cx="304920" cy="151920"/>
              <a:chOff x="990720" y="5181480"/>
              <a:chExt cx="304920" cy="151920"/>
            </a:xfrm>
          </p:grpSpPr>
          <p:sp>
            <p:nvSpPr>
              <p:cNvPr id="161" name=""/>
              <p:cNvSpPr/>
              <p:nvPr/>
            </p:nvSpPr>
            <p:spPr>
              <a:xfrm>
                <a:off x="116496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9072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12104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905120" y="5181480"/>
              <a:ext cx="304920" cy="151920"/>
              <a:chOff x="1905120" y="5181480"/>
              <a:chExt cx="304920" cy="151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03580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7936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0512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10040" y="5181480"/>
              <a:ext cx="304200" cy="151920"/>
              <a:chOff x="2210040" y="5181480"/>
              <a:chExt cx="304200" cy="151920"/>
            </a:xfrm>
          </p:grpSpPr>
          <p:sp>
            <p:nvSpPr>
              <p:cNvPr id="169" name=""/>
              <p:cNvSpPr/>
              <p:nvPr/>
            </p:nvSpPr>
            <p:spPr>
              <a:xfrm>
                <a:off x="2383920" y="518148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10040" y="53334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34000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295640" y="5181480"/>
              <a:ext cx="304200" cy="151920"/>
              <a:chOff x="1295640" y="5181480"/>
              <a:chExt cx="304200" cy="151920"/>
            </a:xfrm>
          </p:grpSpPr>
          <p:sp>
            <p:nvSpPr>
              <p:cNvPr id="173" name=""/>
              <p:cNvSpPr/>
              <p:nvPr/>
            </p:nvSpPr>
            <p:spPr>
              <a:xfrm>
                <a:off x="1425960" y="5181480"/>
                <a:ext cx="432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69520" y="533340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95640" y="5181480"/>
                <a:ext cx="13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600200" y="5181480"/>
              <a:ext cx="304920" cy="151920"/>
              <a:chOff x="1600200" y="5181480"/>
              <a:chExt cx="304920" cy="151920"/>
            </a:xfrm>
          </p:grpSpPr>
          <p:sp>
            <p:nvSpPr>
              <p:cNvPr id="177" name=""/>
              <p:cNvSpPr/>
              <p:nvPr/>
            </p:nvSpPr>
            <p:spPr>
              <a:xfrm>
                <a:off x="1774440" y="518148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00200" y="5333400"/>
                <a:ext cx="13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730520" y="5181480"/>
                <a:ext cx="435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67240" y="5257440"/>
              <a:ext cx="304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33520" y="32767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752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388620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4724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7913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572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7913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. FULLY SERI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51240" y="27558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73060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26080" y="209556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51240" y="2463840"/>
            <a:ext cx="1143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9424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4240" y="2882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92160" y="2184480"/>
            <a:ext cx="5181840" cy="1206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loud"/>
          <p:cNvSpPr/>
          <p:nvPr/>
        </p:nvSpPr>
        <p:spPr>
          <a:xfrm>
            <a:off x="6019920" y="838080"/>
            <a:ext cx="22860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1066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loud"/>
          <p:cNvSpPr/>
          <p:nvPr/>
        </p:nvSpPr>
        <p:spPr>
          <a:xfrm>
            <a:off x="2362320" y="762120"/>
            <a:ext cx="228600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9144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209680" y="1219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1295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4140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816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866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0958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05120" y="3276720"/>
            <a:ext cx="99036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8862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 Serial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447920"/>
            <a:ext cx="0" cy="129528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2743200"/>
            <a:ext cx="30456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82680" y="2057400"/>
            <a:ext cx="1752480" cy="66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895480"/>
            <a:ext cx="17528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94640" y="2438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209680"/>
            <a:ext cx="2057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Kogge 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2209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56200" y="2514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21932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3657600"/>
            <a:ext cx="533520" cy="838080"/>
          </a:xfrm>
          <a:prstGeom prst="up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070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" y="2997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1240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457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 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2895480"/>
            <a:ext cx="75960" cy="457200"/>
          </a:xfrm>
          <a:prstGeom prst="up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7040" y="3314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3657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58920" y="40892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58920" y="12193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1523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2670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 = Parallel inpu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 = Parallel inpu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= Parallel output from Sum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60720" y="1981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73320" y="271764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81760" y="2273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638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3: PARALLEL ADDER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0880" y="533520"/>
            <a:ext cx="304920" cy="152280"/>
            <a:chOff x="380880" y="533520"/>
            <a:chExt cx="304920" cy="152280"/>
          </a:xfrm>
        </p:grpSpPr>
        <p:sp>
          <p:nvSpPr>
            <p:cNvPr id="244" name=""/>
            <p:cNvSpPr/>
            <p:nvPr/>
          </p:nvSpPr>
          <p:spPr>
            <a:xfrm>
              <a:off x="51156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512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88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800" y="533520"/>
            <a:ext cx="304920" cy="152280"/>
            <a:chOff x="685800" y="533520"/>
            <a:chExt cx="304920" cy="152280"/>
          </a:xfrm>
        </p:grpSpPr>
        <p:sp>
          <p:nvSpPr>
            <p:cNvPr id="248" name=""/>
            <p:cNvSpPr/>
            <p:nvPr/>
          </p:nvSpPr>
          <p:spPr>
            <a:xfrm>
              <a:off x="86004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1612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600200" y="533520"/>
            <a:ext cx="304920" cy="152280"/>
            <a:chOff x="1600200" y="533520"/>
            <a:chExt cx="304920" cy="152280"/>
          </a:xfrm>
        </p:grpSpPr>
        <p:sp>
          <p:nvSpPr>
            <p:cNvPr id="252" name=""/>
            <p:cNvSpPr/>
            <p:nvPr/>
          </p:nvSpPr>
          <p:spPr>
            <a:xfrm>
              <a:off x="173088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7444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020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05120" y="533520"/>
            <a:ext cx="304200" cy="152280"/>
            <a:chOff x="1905120" y="533520"/>
            <a:chExt cx="304200" cy="152280"/>
          </a:xfrm>
        </p:grpSpPr>
        <p:sp>
          <p:nvSpPr>
            <p:cNvPr id="256" name=""/>
            <p:cNvSpPr/>
            <p:nvPr/>
          </p:nvSpPr>
          <p:spPr>
            <a:xfrm>
              <a:off x="2079000" y="53352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5120" y="68580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03508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990720" y="533520"/>
            <a:ext cx="304200" cy="152280"/>
            <a:chOff x="990720" y="533520"/>
            <a:chExt cx="304200" cy="152280"/>
          </a:xfrm>
        </p:grpSpPr>
        <p:sp>
          <p:nvSpPr>
            <p:cNvPr id="260" name=""/>
            <p:cNvSpPr/>
            <p:nvPr/>
          </p:nvSpPr>
          <p:spPr>
            <a:xfrm>
              <a:off x="1121040" y="533520"/>
              <a:ext cx="43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64600" y="68580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0720" y="533520"/>
              <a:ext cx="13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295280" y="533520"/>
            <a:ext cx="304920" cy="152280"/>
            <a:chOff x="1295280" y="533520"/>
            <a:chExt cx="304920" cy="152280"/>
          </a:xfrm>
        </p:grpSpPr>
        <p:sp>
          <p:nvSpPr>
            <p:cNvPr id="264" name=""/>
            <p:cNvSpPr/>
            <p:nvPr/>
          </p:nvSpPr>
          <p:spPr>
            <a:xfrm>
              <a:off x="1469520" y="53352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280" y="68580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425600" y="533520"/>
              <a:ext cx="43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362320" y="609480"/>
            <a:ext cx="30456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289548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05640" y="3314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7238880" y="16002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286000" y="990720"/>
          <a:ext cx="5486400" cy="37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548640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34340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676520" y="1371600"/>
          <a:ext cx="5924520" cy="314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59245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34340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59:04Z</dcterms:created>
  <dc:creator>Sudhanshu</dc:creator>
  <dc:description/>
  <dc:language>en-US</dc:language>
  <cp:lastModifiedBy>sk4fs</cp:lastModifiedBy>
  <dcterms:modified xsi:type="dcterms:W3CDTF">2008-10-16T18:00:52Z</dcterms:modified>
  <cp:revision>16</cp:revision>
  <dc:subject/>
  <dc:title>Slide 1</dc:title>
</cp:coreProperties>
</file>